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6A1E-281A-413A-ADE8-57F9B3D0A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9EC9-4BF1-4F12-922C-EC2DAF1AC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EC74-85D0-4E23-956C-9E58F5339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116A-0632-46C6-811C-778054897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023FE-DABF-4881-97E8-2265075DE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73F3-8398-4D85-9686-8BB460B8D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974E1-6E99-4A71-A86E-63C9DAC92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8AB83-8712-4956-BC1A-C54473D2A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F32A-5D62-4FDD-8BC4-91CC10B67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48870-2324-4393-9AC8-EE78739E9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ED45-3AEA-4D52-9049-4E34AB672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596C-A6AF-4321-A867-401840053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0DC43-B7A1-402B-9229-825BEA366A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ven Norms of Collaborativ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bert Garms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ruce Well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Adaptive Scho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ven Norms of Collaborative 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u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aphra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b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tting Ideas on the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ying attention to self and 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uming positive int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suing a balance between advocacy and inqui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2T12:15:46Z</dcterms:created>
  <dc:creator>USER</dc:creator>
  <dc:description/>
  <dc:language>en-US</dc:language>
  <cp:lastModifiedBy>tracy.quattrone</cp:lastModifiedBy>
  <dcterms:modified xsi:type="dcterms:W3CDTF">2008-02-08T16:18:17Z</dcterms:modified>
  <cp:revision>3</cp:revision>
  <dc:subject/>
  <dc:title>Seven Norms of Collaborative Work</dc:title>
</cp:coreProperties>
</file>